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19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camera.wav" ContentType="audio/x-wav"/>
  <Override PartName="/ppt/media/image21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whoosh.wav" ContentType="audio/x-wav"/>
  <Override PartName="/ppt/media/image29.jpeg" ContentType="image/jpeg"/>
  <Override PartName="/ppt/media/image9.jpeg" ContentType="image/jpeg"/>
  <Override PartName="/ppt/media/image11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14.png" ContentType="image/png"/>
  <Override PartName="/ppt/media/image16.gif" ContentType="image/gif"/>
  <Override PartName="/ppt/media/image17.jpeg" ContentType="image/jpeg"/>
  <Override PartName="/ppt/media/image2.jpeg" ContentType="image/jpeg"/>
  <Override PartName="/ppt/media/image18.wmf" ContentType="image/x-wmf"/>
  <Override PartName="/ppt/media/image2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DD04-8696-422C-8B2A-74CC5EC8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9957-A4D6-4DA6-9F22-5023CF39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8989-EC41-47C3-AC53-B722AF01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D71A-5587-4902-BAD4-63D3FD82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5DF4-F79B-41A5-94B6-7CD7B850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0355-47E5-4C6B-955E-94544469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A6C-6386-4D3A-98F9-61C8DBAB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2811-5316-4121-8132-9A0CB261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FBB8-CA2A-4B26-AC2B-C2B40A53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C6C2-F32D-404B-89FD-9A7ED2A2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208C-2096-422F-8ADF-841F10EF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C5E2-71C7-49E3-844D-768E6BC2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FF4F-8DEA-4F17-9194-AEFAD89208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6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b-112511.hotnews.alibaba.com.cn/" TargetMode="Externa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2362320"/>
            <a:ext cx="792468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践行八荣八耻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9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50000">
                <a:srgbClr val="ffffff"/>
              </a:gs>
              <a:gs pos="100000">
                <a:srgbClr val="00e4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82440" y="837720"/>
            <a:ext cx="648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中国是最早讲诚信的国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国自古以来就是一个推崇诚信的国度。先秦的孔子早在几千年前就发出了振聋发聩的哲言：“唯天下至诚，才能经纶天下之大经，立天下之大本，知天地之化育。夫焉又所倚？”  孔子是推崇大人格精神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国可以说是世界上最早讲诚信，并重视诚信教育的国家。“五常”是中国人最高的人伦准则，“信”是五常之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仁、义、礼、智、信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5325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五角钱信用的故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某国际性大学里，一位教授讲了一个故事：逃亡者乔治在一个小镇上住了下来，他每天都在街口的小饭馆里吃饭。每顿五角钱。这天上午，他吃完付帐的时候，店主恰好没有零钱找给他，便说下午吃完再一块给吧。乔治同意了。下午去饭馆吃饭时，发现饭馆周围站着几名巡捕，他们就是来抓逃犯乔治的。怎么办？乔治犯了难。悄悄逃走吧，就会失信于小饭馆；进去还钱吧，就会被捕。想了很长时间，他就化装成一个老妇人，去还钱。可是这个店主心想，我没有赊帐过老妇人的钱呀，两个人推推搡搡了半天，反而引起了巡捕的注意。不幸，终被巡捕抓了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同学们，听了此故事，讨论一下，如果是你，你会怎么做？或有何感想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老师也举一些例子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期中考试，我们高一语文试卷的作文阅读材料中说，有报道：不久前，美国加洲大学洛杉矶医学院的梅勒教授开除了一名来自中国的学生，因为他发现这名博士生偷改成绩单。教授不无遗憾地说，这个学生表现虽然相当出色，但这样的人将来进入医疗卫生领域，会造成可怕的后果。在这个领域，道德有缺陷的人是没有立足之地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8960" y="990720"/>
            <a:ext cx="55544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没有信誉就没有生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有一名我们在德国的留学生，毕业时成绩优异得很，但在德国四处求职时，被很多家大公司拒绝，选了一家小公司去求职，没想到仍然被拒。德国佬给留学生看了一份记录，记录他乘坐公共汽车曾经被抓住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次逃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德国抽查逃票一般被查到的几率是万分之三。国际经济就是信誉经济。如果一个人在三毛两角的蝇头小利上都靠不住，你还能指望在别的事情上可以信赖他吗？这就是严谨的德国人看人的标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477120" y="304920"/>
            <a:ext cx="240012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信 用 危 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一个在俄罗斯做生意的中国倒爷，刚到哈罗夫斯克的时候没有带皮帽子，当地冬天的气温达到零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摄氏度，他外出送货的时候冻的不行，捂着耳朵在雪地里跑，这时“啪”的一声，一顶皮帽子扣在他的头上。回头一看，一个俄罗斯汉子站在他的面前，用生硬的汉语说：“明天。” 同时又用手指指手，再指指脚下。意思是明天这个时候在这里还我的皮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古人有云：“滴水之恩自当涌泉相报”，然而令人心寒的是，中国人的信用危机偏偏就这样发生了。第二天，倒爷不但没有去还人家的帽子，还洋洋得意地嘲讽那个好心的俄罗斯人：“你猜‘傻帽儿’这个词是怎么来的？就是傻瓜等帽子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715000" y="304920"/>
            <a:ext cx="290052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79292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国每年因诚信损失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5855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据《江苏经济报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日报道，中国企业联合会理事长张彦宁近日透露，中国每年因为逃废债务造成的直接损失约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80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亿元，由于合同欺诈造成的直接损失约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亿元，产品质量低劣和制假售假造成的各种损失至少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00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亿元，由于“三角债”和现款交易增加的财务费用约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00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亿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971800" y="1219320"/>
            <a:ext cx="5486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代文明的拥有，使得那些急功近利人们淡忘了诚信。“诚信”似乎成了一个遥远的故事， “诚信”似乎永远属于那个诗意而华丽的时代，属于英雄的誓言，属于唐诗宋词，属于《清明上河图》阜盛的街市，属于一本厚厚的《三国志》，属于政治课本的某个角落里尘封的抽象名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715000" cy="3782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914400" y="5181480"/>
            <a:ext cx="7705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7</a:t>
            </a: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、以遵纪守法为荣，以违法乱纪为耻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2666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191120" y="2666880"/>
            <a:ext cx="4952880" cy="3124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380880" y="5562720"/>
            <a:ext cx="768672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8</a:t>
            </a: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、以艰苦奋斗为荣，以骄奢淫逸为耻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30480" y="0"/>
            <a:ext cx="48830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54936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以热爱祖国为荣、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以危害祖国为耻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34136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以服务人民为荣、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以背离人民为耻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13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以崇尚科学为荣、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以愚昧无知为耻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78136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以辛勤劳动为荣、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以好逸恶劳为耻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42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以团结互助为荣、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以损人利己为耻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414972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以诚实守信为荣、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以见利忘义为耻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494172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以遵纪守法为荣、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以违法乱纪为耻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5805360"/>
            <a:ext cx="8893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以艰苦奋斗为荣、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以骄奢淫逸为耻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09480" y="609480"/>
            <a:ext cx="77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荣耻之一是，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坚持以热爱祖国为荣、以危害祖国为耻。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国家不强大，个人永难强大，就像树苗没有一片广阔的天、没有肥沃的土，永难长成参天大树。爱国就是爱自己，“能够献身于自己祖国的事业，这是最光荣不过的事情了。”祖国，我们贡献给她的越多，我们的生活就越光辉，越广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986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天下兴亡</a:t>
            </a: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8720" y="5715000"/>
            <a:ext cx="319824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华文彩云"/>
              </a:rPr>
              <a:t>天下兴亡，匹夫有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以热爱祖国为荣、以危害祖国为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带走一部手机　丢掉祖国尊严（荣辱亲历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c436f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在英国，多数人并不直接购买手机，而是与手机公司签订一种合同。一年之内，用户每月缴纳二三十英镑，手机公司则每月为用户提供</a:t>
            </a:r>
            <a:r>
              <a:rPr b="1" lang="zh-CN" sz="2400" spc="-1" strike="noStrike">
                <a:solidFill>
                  <a:srgbClr val="ffffff"/>
                </a:solidFill>
                <a:latin typeface="_x000b__x000c_"/>
              </a:rPr>
              <a:t>10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分钟左右的免费通话时间；一年之后，手机归用户所有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这项业务是不需要押金的，但中国留学生申请时却要交纳。原因何在？前些年，个别中国留学生在毕业之前去手机公司签几部手机，然后就关掉在英国的账户回国了。这给手机公司造成不小的损失，也换来了手机公司给予中国后来留学生的“特殊政策”―――交相当于一部手机售价的押金。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83536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153280" y="6400800"/>
            <a:ext cx="8384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下一页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440" y="10666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c436f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交押金尚且容易，想取回押金则要费一番周折了。根据手机公司的规定，要在一年之后凭交费证明等相关材料才能取回押金。不少留学生在英国总共只有短短一年，有时马上要回国了还取不回押金。原本一项方便用户的业务，遇到中国人时却变得如此复杂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_x000b__x000c_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_x000b__x000c_"/>
              </a:rPr>
              <a:t>身在异国他乡，才更清楚地意识到自己是黄皮肤黑头发、会写方块字的中国人。当外国人误解中国人时，留学生或用并不流利的英文与其争辩、解释，或默默在内心愤愤不平。这是热爱祖国的表现，但仅如此并不够。走出国门，留学生代表的不仅仅是个人，还包括整个中国青年这一群体。捍卫伟大祖国的尊严，展现中华儿女的风貌，贵在自身的一言一行、一举一动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17521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如何热爱祖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92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8153280" y="6324480"/>
            <a:ext cx="8384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下一页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76680" y="327672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99ffcc"/>
                </a:solidFill>
                <a:latin typeface="Times New Roman"/>
              </a:rPr>
              <a:t>例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99ffcc"/>
                </a:solidFill>
                <a:latin typeface="Times New Roman"/>
              </a:rPr>
              <a:t>《北京林业大学师生七年坚持拒用一次性筷子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92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北京林业大学师生坚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拒用一次性筷子，最早呼吁拒绝使用一次性筷子的呼吁者早已离开北林大，但这个高尚的呼吁和背后的故事至今在校园回响。学林业的人带头维护森林，在北林大蔚然成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北林大师生不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拒用一次性筷子，还率先开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卡救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，逢年过节或遇亲朋喜庆事，不寄发纸质贺卡，改用其他方式表达问候，在全国产生了影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ffcc"/>
                </a:solidFill>
                <a:latin typeface="Times New Roman"/>
                <a:ea typeface="华文彩云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用一次性筷子和纸质贺卡会浪费木材，就是浪费国家资源。他们的行为是爱国的一种表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31720" y="1371600"/>
            <a:ext cx="4844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为什么北京林业大学的师生要这样做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ffcc"/>
                </a:solidFill>
                <a:latin typeface="Times New Roman"/>
                <a:ea typeface="华文彩云"/>
              </a:rPr>
              <a:t>小组讨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我们应该怎样从身边的小事做起，热爱祖国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13160" y="3373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65080" y="3886200"/>
            <a:ext cx="95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节约用水，节约用电、不破坏公物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不随地丢垃圾、参加升旗仪式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16000" y="1197000"/>
            <a:ext cx="712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胡锦涛同志于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006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日，在全国政协十届四次会议民盟、民进联组会上，亲切看望各位委员，并参加了他们的讨论，第一次提出树立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八荣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八耻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”的社会主义荣辱观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60480" y="68580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荣耻之二是，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以服务人民为荣、以背离人民为耻。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不管是孟子的“老吾老以及人之老，幼吾幼以及人之幼”，还是孟德斯鸠的“个人利益永远包括在公共利益之中”，都是以服务人民为荣。连大诗人裴多菲都坚信：谁是诗人，谁就得千辛万苦地和人民在一起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905120" y="548640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民为邦本，本固邦宁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00000" y="62064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荣耻之三是，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以崇尚科学为荣、以愚昧无知为耻。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科学技术是第一生产力，当代竞争，很大程度上就是科学精神的竞争。伽利略说：“我出卖了我的职业，科学行列里就不容许我的存在。”这是献身科学。居里夫人说：“我发现了镭，但不是创造了它，因此它不属于我个人，它是全人类的财产。”这是信奉科学。贝多芬说：“人们不可因为孩子的死亡，就放弃生育。”这是把科学的精神转化为现实的理性生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895480" y="228600"/>
            <a:ext cx="2895840" cy="3352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362320" cy="3352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095880" y="304920"/>
            <a:ext cx="2854440" cy="3200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04920" y="3733920"/>
            <a:ext cx="3708360" cy="2971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4343400" y="3733920"/>
            <a:ext cx="4419720" cy="2971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619280" y="2353680"/>
            <a:ext cx="625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　         荣耻之四是，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以辛勤劳动为荣、以好逸恶劳为耻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人起源于劳动，春蚕到死丝方尽，蜡炬成灰泪始干，高智慧的人类必须超过“春蚕”和“蜡炬”。鲁迅说得好，“只要能培一朵花，就不妨化做会朽的腐草”———只有劳动，才能有益于人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332000" y="98100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荣耻之五是，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以团结互助为荣、以损人利己为耻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团结就是力量，这力量是铁，这力量是钢。诗人泰戈尔生动地描述了社会人应该团结的道理：“果子的事业是尊贵的，花的事业是甜蜜的，但是，让我们做叶的事业吧，叶是谦逊地、专注地垂着绿荫。”———只有果、花和叶团结了，才有协调的美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03280" y="170028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荣耻之六是，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以诚实守信为荣、以见利忘义为耻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荀子的“先义而后利者荣、先利而后义者辱”，到苏轼的“苟非吾之所有，虽一毫而莫取”，都说明了诚信是多么重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63640" y="1268280"/>
            <a:ext cx="57610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    荣耻之七是，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以遵纪守法为荣、以违法乱纪为耻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对人民来说，唯一的权力是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法律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。在一个法治国家，人人都应敬畏法律，视法律为神圣的准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16000" y="765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         荣耻之八是，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以艰苦奋斗为荣、以骄奢淫逸为耻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居安思危，戒奢以俭；以俭立名，以侈自败；金玉满堂，莫之能守；富贵而骄，自遗其咎；历览前贤国与家，成由勤俭破由奢。尽管小康近在眼前，我们依旧不能忘了“以俭入奢易，以奢入俭难；勤俭建国家，永久是真言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457200" y="914400"/>
            <a:ext cx="8686800" cy="762120"/>
            <a:chOff x="457200" y="914400"/>
            <a:chExt cx="8686800" cy="762120"/>
          </a:xfrm>
        </p:grpSpPr>
        <p:sp>
          <p:nvSpPr>
            <p:cNvPr id="153" name=""/>
            <p:cNvSpPr/>
            <p:nvPr/>
          </p:nvSpPr>
          <p:spPr>
            <a:xfrm>
              <a:off x="457200" y="914400"/>
              <a:ext cx="8686800" cy="7621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" y="914400"/>
              <a:ext cx="8686800" cy="762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以热爱祖国为荣、以危害祖国为耻，以服务人民为荣、以背离人民为耻，以崇尚科学为荣、以愚昧无知为耻，以辛勤劳动为荣、以好逸恶劳为耻，以团结互助为荣、以损人利己为耻，以诚实守信为荣、以见利忘义为耻，以遵纪守法为荣、以违法乱纪为耻，以艰苦奋斗为荣、以骄奢淫逸为耻。</a:t>
              </a:r>
              <a:br>
                <a:rPr sz="4000"/>
              </a:b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二、群策群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Times New Roman"/>
              </a:rPr>
              <a:t>分组活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规则：以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-6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为一组，在“八荣八耻”中，任选一个主题，结合身边的例子，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现场编演小品剧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编剧限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分钟，表演限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分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Times New Roman"/>
              </a:rPr>
              <a:t>参考题目：</a:t>
            </a:r>
            <a:r>
              <a:rPr b="0" lang="zh-CN" sz="3200" spc="-1" strike="noStrike">
                <a:solidFill>
                  <a:srgbClr val="99ffcc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99ffcc"/>
                </a:solidFill>
                <a:latin typeface="Times New Roman"/>
              </a:rPr>
              <a:t>、售卖假冒伪劣商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Times New Roman"/>
              </a:rPr>
              <a:t>                    </a:t>
            </a:r>
            <a:r>
              <a:rPr b="0" lang="zh-CN" sz="3200" spc="-1" strike="noStrike">
                <a:solidFill>
                  <a:srgbClr val="99ffcc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99ffcc"/>
                </a:solidFill>
                <a:latin typeface="Times New Roman"/>
              </a:rPr>
              <a:t>、卖货短斤缺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Times New Roman"/>
              </a:rPr>
              <a:t>                    </a:t>
            </a:r>
            <a:r>
              <a:rPr b="0" lang="zh-CN" sz="3200" spc="-1" strike="noStrike">
                <a:solidFill>
                  <a:srgbClr val="99ffcc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99ffcc"/>
                </a:solidFill>
                <a:latin typeface="Times New Roman"/>
              </a:rPr>
              <a:t>、破坏公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Times New Roman"/>
              </a:rPr>
              <a:t>                    </a:t>
            </a:r>
            <a:r>
              <a:rPr b="0" lang="zh-CN" sz="3200" spc="-1" strike="noStrike">
                <a:solidFill>
                  <a:srgbClr val="99ffcc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99ffcc"/>
                </a:solidFill>
                <a:latin typeface="Times New Roman"/>
              </a:rPr>
              <a:t>、不守交通规则，乱闯红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cc"/>
                </a:solidFill>
                <a:latin typeface="Times New Roman"/>
              </a:rPr>
              <a:t>                    </a:t>
            </a:r>
            <a:r>
              <a:rPr b="0" lang="zh-CN" sz="3200" spc="-1" strike="noStrike">
                <a:solidFill>
                  <a:srgbClr val="99ffcc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99ffcc"/>
                </a:solidFill>
                <a:latin typeface="Times New Roman"/>
              </a:rPr>
              <a:t>、进行封建迷信活动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305560" cy="4876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一、看漫画，知荣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6143760"/>
            <a:ext cx="74674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1</a:t>
            </a: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、以热爱祖国为荣，以危害祖国为耻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三、分组讨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99ffcc"/>
                </a:solidFill>
                <a:latin typeface="Times New Roman"/>
              </a:rPr>
              <a:t>结合实际情况，围绕“八荣八耻”，谈谈学习后的感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705360" cy="4959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838080" y="5943600"/>
            <a:ext cx="700092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2.</a:t>
            </a:r>
            <a:r>
              <a:rPr b="1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以服务人民为荣，以背离人民为耻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632120" cy="5410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066680" y="5638680"/>
            <a:ext cx="700092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3.</a:t>
            </a: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以崇尚科学为荣，以愚昧无知为耻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239240" cy="4876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295280" y="5334120"/>
            <a:ext cx="7000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4.</a:t>
            </a: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以辛勤劳动为荣，以愚昧无知为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4191120" cy="3505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4038480" cy="3505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838080" y="5486400"/>
            <a:ext cx="766764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5</a:t>
            </a: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、以团结互助为荣，以损人利己为耻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21040" cy="3276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248520" y="-76320"/>
            <a:ext cx="2895480" cy="3353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762120" y="4191120"/>
            <a:ext cx="80769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6</a:t>
            </a: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、以诚实守信为荣，以见利忘义为耻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895480" y="0"/>
            <a:ext cx="3429000" cy="327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02:23:3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57:43Z</dcterms:modified>
  <cp:revision>6</cp:revision>
  <dc:subject>主题班会课件(分28大类): http://shop62905894.taobao.com</dc:subject>
  <dc:title>主题班会课件(分28大类): http://shop62905894.taobao.com</dc:title>
</cp:coreProperties>
</file>